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300-BDFB-404F-80EE-6CA6DAEC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EEF-6722-4B58-824A-7AFF4A51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784-0EAB-4338-860F-06E96469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515-955A-4F71-96F3-18E6CF4A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B5A7-19E1-42FC-8778-16B151A2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46C4-A5B6-4C00-8E33-CB2CAC7C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43D-5318-4323-B0D4-AE383917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D773-9E93-459A-BD3C-F6186FE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6168-7BBC-4922-8CCD-221D8360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BFAE-864C-4E9D-9283-3C978995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2765-FB91-47EE-A5B4-93E92FB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08A-353C-4B74-9ED3-1B0DC33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AD54-D614-4065-8D3E-18DF45D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4006-3D79-4216-9D7E-0588FBB7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6F83-9B1E-466F-A910-D4863F84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CAFB-A517-4FC8-A571-5DB80C39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50CC-D542-475A-A5EA-72F9A1B0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E3C3-9DB5-4914-AC83-2D229EF6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6A45-BB6C-4393-A49C-1EC17EC8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179F-73C8-481D-A551-A3213BED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7BF8-0806-41AA-B476-AFF628DC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A713-599A-41B8-A40A-96D6BC7F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ECC-6504-4AE4-A972-F184FD8F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D729-9034-46D4-9137-546DD8EA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44D0-07F5-4050-B62E-5CD1D01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6359-F019-490C-A046-98FA648A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CB567-B7E1-44E8-9A6A-2C93EBE8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14B1-779B-411B-A29B-919C50F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91DC-164E-4383-B2D3-94423ACD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1D1B-5C41-4F87-91CF-8CB37A3D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85C6-B0DB-4E1D-8F83-8B0F162C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DC68C-825B-4287-A7DA-A9AAAD70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9036-9A86-4B70-BB68-4297324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C45-30E0-403A-81E8-422C586F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7044-DABA-4108-98C1-70715DA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9E16-4E18-4D3B-972C-74030D28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C2FA0-DF42-4228-9EA1-40D13673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400D2-3313-4890-B7CC-280FCFB4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F13D-7E98-4E01-A255-14F6FDC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1B03-D3CD-4F1C-8B81-F72F82A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FB36-AB07-4599-8A7D-C8814912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D33B-46E1-420C-9FA6-DF6908E0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7F39-EE36-4647-8659-F3EC3812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A28E-BE72-4F97-B080-121F7D87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D98-DBB8-45B9-A522-F998CFC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3A7E-3137-4CD4-8C27-5C2433D6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C851-BAF4-4E20-B203-36ECF5C5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086BB-A014-44E6-ADC7-914BBD2A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83853-42EF-4ECA-931C-3F7CB6B5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9DA9-4349-455A-BE5F-0534F1FA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63D8-B26C-409D-B0F0-BD536A69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AE6CD-0FC0-457D-A1B4-0ED2F3A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B87D2-18C5-4A86-869A-F502B39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BD9F-FE9C-4B4A-8DC5-B99F8D06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F388-56D0-41B4-9B74-168F3D1C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B79-B73A-49FA-8B1D-D08B14ED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718A1-B876-4672-B4C3-EEC0E49E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F6F1D-3685-42A4-9BB4-2B2763BF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9B4BF-C11B-4434-9293-034A202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C334B-4DE7-490A-8E52-EFC8CB8B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BF6D-1996-41B5-8AC6-76BB4B67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493F-9150-40C8-A68C-1E29E5B1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218D-B04A-4B90-81F5-75680D9F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E38EE-7AD3-4982-8B32-B236C7A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A441C-3A0F-4830-B45E-3A64916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52B9-CC36-4721-9FF7-C37A8D3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A82-9F76-4081-8F3B-E6E68DDA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519D-2072-4C4A-A312-32462FC2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AE05-1F99-45E1-A931-9AF2E631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9A405-8D74-48B5-96E3-4FB7FF36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855-6E2C-471B-B36A-12719AC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1C6-5558-4828-BF30-E9C6F91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DB5D-313A-4EBE-938D-1E4C7B3C5D35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FD91-1365-44CE-8A5A-3F411EA4F4D1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F0D6-B7A3-49A1-8FCD-8B3FA3DA5952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2942-E12F-49F4-A1DF-9D2DB76404A8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542-CD3B-4F5A-A387-74A435489BCE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5E8A-6F8A-47B0-A21D-0C19D3BFC672}" type="slidenum">
              <a:rPr b="0" lang="ro-RO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53920" y="291960"/>
            <a:ext cx="64915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28920" y="3857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Trâncă Rareș-Andr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lasa a-VII-a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Disciplina-Cultură Civic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Franklin Gothic Book"/>
              </a:rPr>
              <a:t>...pentru început.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Eu sun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...un copil care aparține Universului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...un copil care aparține Terrei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...un copil care aparține Europe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...un copil căruia statul Român ii oferă drepturi și îndatoriri.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storage0.dms.mpinteractiv.ro/media/401/421/6729/2349953/1/foisoru-scolii.jpg"/>
          <p:cNvPicPr/>
          <p:nvPr/>
        </p:nvPicPr>
        <p:blipFill>
          <a:blip r:embed="rId1"/>
          <a:stretch/>
        </p:blipFill>
        <p:spPr>
          <a:xfrm>
            <a:off x="0" y="0"/>
            <a:ext cx="909144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002060"/>
                </a:solidFill>
                <a:latin typeface="Franklin Gothic Book"/>
              </a:rPr>
              <a:t>Copil </a:t>
            </a:r>
            <a:r>
              <a:rPr b="0" lang="ro-RO" sz="4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în școala “Mihai Vodă”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d0d0d"/>
                </a:solidFill>
                <a:latin typeface="Arial"/>
              </a:rPr>
              <a:t>Acest centru de învățământ din mediul rural, oferă condiții foarte bune de învățământ, stimulând elevii prin diverse ocncursuri cu premii, campionate sportive, parteneriate internationale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d0d0d"/>
                </a:solidFill>
                <a:latin typeface="Arial"/>
              </a:rPr>
              <a:t>Personal....am o părere foarte bună despre școala în care primesc o educație bună care să mă formeze ca om în viață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ww.bacmd.com/blog/wp-content/uploads/2009/04/el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o-RO" sz="4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ev</a:t>
            </a:r>
            <a:r>
              <a:rPr b="0" lang="ro-RO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în școala “Mihai Vodă”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Ca în orice școală,nu este ușor....dar....pentru rezultate bune....trebuie muncă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La acest capitol....suntem ajutați de profesori...care ne ajută sa învățăm într-un mediu plăcut și ocrotitor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tățean al comunei Mihai Viteazu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Trăiesc într-o comunitate de oameni uniți, buni și gospodari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Mă pot mândri cu faptul că aparțin acestei comune....deoarece acest punct de pe hartă, Mihai Viteazu, ascunde o populație de aproximativ 7 milioane de locuitori care, împreună au reușit să construiască o localitate modernă, care să atragă turiștii și să dea bună dispoziție cetățenil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tățean româ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ânia este o țară liberă,cu o economie în curs de dezvol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eră multe drepturi cetățenilor săi, chiar dacă economia nu este foarte bine dezvoltat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ar dacă mulți oameni din afară detestă această țară înfloritoare,plină de bogății, cu un trecut zbuciumat,eu sunt mândru că sunt român orice s-ar întâmp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600" spc="-1" strike="noStrike">
                <a:solidFill>
                  <a:srgbClr val="ffffff"/>
                </a:solidFill>
                <a:latin typeface="Franklin Gothic Book"/>
              </a:rPr>
              <a:t>Viitorul..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Arial"/>
              </a:rPr>
              <a:t>Vreau ca la sfârșitul clasei a-12-a să calc mândru pragul Colegiului Național Mihai Viteazu cu diploma de Bacalaureat în mână...iar după aceea să fiu absolventul Facultății de Medicină...și să devin un medic priceput...cu o familie unită si iubitoare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3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ă mulțumesc pentru atenție!!!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44:44Z</dcterms:created>
  <dc:creator>rares</dc:creator>
  <dc:description/>
  <dc:language>en-US</dc:language>
  <cp:lastModifiedBy>rares</cp:lastModifiedBy>
  <dcterms:modified xsi:type="dcterms:W3CDTF">2010-01-27T20:31:44Z</dcterms:modified>
  <cp:revision>11</cp:revision>
  <dc:subject/>
  <dc:title>CINE SUNT EU?</dc:title>
</cp:coreProperties>
</file>